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wmf" ContentType="image/x-wmf"/>
  <Override PartName="/ppt/media/image24.wmf" ContentType="image/x-wmf"/>
  <Override PartName="/ppt/media/image15.wmf" ContentType="image/x-wmf"/>
  <Override PartName="/ppt/media/image4.gif" ContentType="image/gif"/>
  <Override PartName="/ppt/media/image6.wmf" ContentType="image/x-wmf"/>
  <Override PartName="/ppt/media/image8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10.jpeg" ContentType="image/jpeg"/>
  <Override PartName="/ppt/media/image2.gif" ContentType="image/gif"/>
  <Override PartName="/ppt/media/image34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6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701640" y="4411440"/>
            <a:ext cx="5600880" cy="4181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7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8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5F4D6-7EFE-49CF-882B-B3A8610B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04928-A20C-4CA9-95D9-89B9BA0AF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B epidemic has been well-controlled by great efforts of TB DOT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t HIV is now fuelling TB the epi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F9914-6AFA-426D-AC17-8DFED4FC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70440" y="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70440" y="8820000"/>
            <a:ext cx="3033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820000"/>
            <a:ext cx="3033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7477-FCFE-4A30-9310-3F19E6625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2184-1DC1-4BF7-AEF5-62502EB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23DE-A7BF-4360-BFD5-6028C2F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5A91-1495-4DC0-9BE1-A8B1AC4BA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A5313-AA0A-4199-B76E-A477845F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D550-AA33-41D2-9E56-9703A5F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33FA0-4EB2-4200-BF28-8755F7D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C4F92-0D20-4F3F-A0EC-C7F30A1D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9E4E7-018A-43F8-AFC5-610DECB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1FA8-60A0-4770-B46A-D130172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F17CC-EF9F-4A9F-A06E-3C22190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0664-E4BD-47B8-AF5A-C5562AC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4DF7-A6B4-4D06-9D1D-A3FADD5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FD9C-C830-4907-96D8-7C79E736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A44DD-2954-4496-8A27-08E999E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59C63-D5D5-4A9F-8FC9-6787B5CF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2458C-0D4A-429F-9CEE-47D448BE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76FD-F1B1-47F9-91BC-EE62250E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1571-29D5-4FBE-873E-34C8140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5025-2C58-4AD8-BBC1-0677E42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738A-8AA9-4D48-A230-1E6DCC04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23CE-4B4E-4DBB-A25C-35CA353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97BB-D93E-422C-901B-9CB1425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A1A2-5D3C-442B-88E3-C4DF2C7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6F3B-68FF-40CC-B7AB-D373E41E4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971640" y="6669000"/>
            <a:ext cx="5113080" cy="0"/>
          </a:xfrm>
          <a:prstGeom prst="line">
            <a:avLst/>
          </a:prstGeom>
          <a:ln w="28440">
            <a:solidFill>
              <a:srgbClr val="c9c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227640" y="650880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c9c9e5"/>
                </a:solidFill>
                <a:latin typeface="Arial"/>
              </a:rPr>
              <a:t>National TB Program Indones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36520" y="6093000"/>
            <a:ext cx="51912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C1DB-D6A4-4E12-9119-B73467587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669000"/>
            <a:ext cx="5113080" cy="0"/>
          </a:xfrm>
          <a:prstGeom prst="line">
            <a:avLst/>
          </a:prstGeom>
          <a:ln w="28440">
            <a:solidFill>
              <a:srgbClr val="c9c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650880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c9c9e5"/>
                </a:solidFill>
                <a:latin typeface="Arial"/>
              </a:rPr>
              <a:t>National TB Program Indones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6520" y="6093000"/>
            <a:ext cx="519120" cy="718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259080" y="2386080"/>
            <a:ext cx="3655800" cy="2300760"/>
            <a:chOff x="3259080" y="2386080"/>
            <a:chExt cx="3655800" cy="230076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259080" y="2386080"/>
              <a:ext cx="35197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348000" y="3922560"/>
              <a:ext cx="35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B Epidemi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19480" y="2211480"/>
            <a:ext cx="3595680" cy="1731960"/>
            <a:chOff x="3219480" y="2211480"/>
            <a:chExt cx="3595680" cy="1731960"/>
          </a:xfrm>
        </p:grpSpPr>
        <p:sp>
          <p:nvSpPr>
            <p:cNvPr id="165" name=""/>
            <p:cNvSpPr/>
            <p:nvPr/>
          </p:nvSpPr>
          <p:spPr>
            <a:xfrm>
              <a:off x="3219480" y="2211480"/>
              <a:ext cx="3595680" cy="173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3735360" y="3216240"/>
              <a:ext cx="263844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1680" y="2379600"/>
            <a:ext cx="3519720" cy="154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208560" y="1670040"/>
            <a:ext cx="2610000" cy="2143800"/>
            <a:chOff x="6208560" y="1670040"/>
            <a:chExt cx="2610000" cy="2143800"/>
          </a:xfrm>
        </p:grpSpPr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6208560" y="1670040"/>
              <a:ext cx="2103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084800" y="3049560"/>
              <a:ext cx="1733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669999"/>
                  </a:solidFill>
                  <a:latin typeface="Arial"/>
                  <a:ea typeface="MS PGothic"/>
                </a:rPr>
                <a:t>DOT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6760" y="2722680"/>
            <a:ext cx="3917880" cy="2539440"/>
            <a:chOff x="266760" y="2722680"/>
            <a:chExt cx="3917880" cy="253944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266760" y="2722680"/>
              <a:ext cx="391788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07080" y="4619520"/>
              <a:ext cx="31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HIV Epidemi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DA7F-3418-4A48-A69F-78B53C47AEF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22860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057C-2E36-487F-99C2-AF75F0CC7F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255600"/>
            <a:ext cx="77058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ing all health facilities and all provider </a:t>
            </a:r>
            <a:r>
              <a:rPr b="1" lang="en-US" sz="28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increasing Case Notification</a:t>
            </a:r>
            <a:br>
              <a:rPr sz="2800"/>
            </a:br>
            <a:br>
              <a:rPr sz="9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rning!!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reatment Succes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7128000" cy="4379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35640" y="4541760"/>
            <a:ext cx="3046320" cy="18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C509-0CD9-428B-9A47-8B24775799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1955880"/>
            <a:ext cx="79246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       “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OTS”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       S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Cured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47 (19.75%)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97 (7.28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Complete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82 (34.45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70 (35.26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Failed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 (1.68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4 (0.3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Drop out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88 (36.9%)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670 (50.26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Move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17 (7.14%)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67 (5.03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Died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Others                     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0 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25 (1.88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Total no of cases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238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0066"/>
                </a:solidFill>
                <a:latin typeface="Arial"/>
              </a:rPr>
              <a:t>133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260280"/>
            <a:ext cx="72705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Persahabatan 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Retrospectiv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Tahoma"/>
              </a:rPr>
              <a:t>July 1999 – Jun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320" y="166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B071-C460-4D89-BAFD-42D3199DBA41}" type="slidenum">
              <a:t>12</a:t>
            </a:fld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274680"/>
            <a:ext cx="712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 hospital and cl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3800" y="545616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3800" y="509904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3800" y="475128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3800" y="439272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3800" y="404496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3800" y="368604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3800" y="333864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3800" y="298116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3800" y="263376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3800" y="2274840"/>
            <a:ext cx="688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27160" y="3338640"/>
            <a:ext cx="92160" cy="246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46040" y="3097080"/>
            <a:ext cx="10008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4640" y="3097080"/>
            <a:ext cx="9072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440" y="3022560"/>
            <a:ext cx="9180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11320" y="3022560"/>
            <a:ext cx="10008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39920" y="2949480"/>
            <a:ext cx="90360" cy="285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59160" y="2717640"/>
            <a:ext cx="90360" cy="308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7804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05200" y="3265560"/>
            <a:ext cx="92160" cy="253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538440"/>
            <a:ext cx="100080" cy="226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1240" y="3338640"/>
            <a:ext cx="92160" cy="246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70120" y="3033720"/>
            <a:ext cx="92160" cy="277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936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7960" y="3222720"/>
            <a:ext cx="90360" cy="2581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37200" y="3022560"/>
            <a:ext cx="90360" cy="278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54640" y="3138480"/>
            <a:ext cx="101520" cy="26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240" y="3592440"/>
            <a:ext cx="90360" cy="221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02120" y="2843280"/>
            <a:ext cx="90720" cy="296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1360" y="3191040"/>
            <a:ext cx="100080" cy="26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48160" y="2685960"/>
            <a:ext cx="92160" cy="3117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7400" y="2633760"/>
            <a:ext cx="90360" cy="3170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6280" y="3086280"/>
            <a:ext cx="100080" cy="27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3440" y="2833560"/>
            <a:ext cx="92160" cy="297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32680" y="2928960"/>
            <a:ext cx="99720" cy="2874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61280" y="2643120"/>
            <a:ext cx="90360" cy="3160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80160" y="3213000"/>
            <a:ext cx="9036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97600" y="3413160"/>
            <a:ext cx="101520" cy="23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26200" y="4592520"/>
            <a:ext cx="90720" cy="121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5440" y="3097080"/>
            <a:ext cx="90360" cy="2706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64320" y="3508200"/>
            <a:ext cx="100080" cy="229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91480" y="4581360"/>
            <a:ext cx="92160" cy="122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7160" y="2622600"/>
            <a:ext cx="9216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46040" y="2433600"/>
            <a:ext cx="100080" cy="663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74640" y="2643120"/>
            <a:ext cx="90720" cy="453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440" y="2475000"/>
            <a:ext cx="91800" cy="547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11320" y="2433600"/>
            <a:ext cx="100080" cy="58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9920" y="2549520"/>
            <a:ext cx="9036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59160" y="2654280"/>
            <a:ext cx="90360" cy="63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78040" y="2495520"/>
            <a:ext cx="100080" cy="695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05200" y="2465280"/>
            <a:ext cx="92160" cy="800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2506680"/>
            <a:ext cx="100080" cy="10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2549520"/>
            <a:ext cx="92160" cy="789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70120" y="2517840"/>
            <a:ext cx="92160" cy="51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89360" y="2622600"/>
            <a:ext cx="100080" cy="56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17960" y="3013200"/>
            <a:ext cx="90360" cy="20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7200" y="2558880"/>
            <a:ext cx="90360" cy="4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54640" y="2822400"/>
            <a:ext cx="101520" cy="316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240" y="3117960"/>
            <a:ext cx="90360" cy="474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02120" y="2538360"/>
            <a:ext cx="90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21360" y="2633760"/>
            <a:ext cx="100080" cy="55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48160" y="2433600"/>
            <a:ext cx="9216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7400" y="2379600"/>
            <a:ext cx="90360" cy="254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86280" y="2897280"/>
            <a:ext cx="100080" cy="18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2643120"/>
            <a:ext cx="92160" cy="19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32680" y="2422440"/>
            <a:ext cx="99720" cy="50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1280" y="2527200"/>
            <a:ext cx="90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80160" y="2654280"/>
            <a:ext cx="90360" cy="55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97600" y="3013200"/>
            <a:ext cx="10152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26200" y="3413160"/>
            <a:ext cx="90720" cy="1179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45440" y="2822400"/>
            <a:ext cx="90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64320" y="2801880"/>
            <a:ext cx="100080" cy="70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91480" y="4149720"/>
            <a:ext cx="921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63800" y="2274840"/>
            <a:ext cx="1440" cy="352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27080" y="58039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27080" y="5456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27080" y="50990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27080" y="47512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27080" y="43927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27080" y="40449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27080" y="36860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27080" y="3338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27080" y="2981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27080" y="26337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27080" y="22748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3800" y="5803920"/>
            <a:ext cx="688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0638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826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5098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7287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9479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1765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39544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1288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4148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607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878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067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260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9546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1720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3909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195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3876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0562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848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5040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7229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95008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6896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9756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61500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8342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06284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281720" y="580392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4995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72812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947000" y="580392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21200" y="1727280"/>
            <a:ext cx="581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cent of TB-patients who were cured or completed treat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8720" y="1969920"/>
            <a:ext cx="1605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province,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9480" y="5719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5680" y="5372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5680" y="5014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680" y="4667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5680" y="4308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5680" y="3960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15680" y="36021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5680" y="325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5680" y="2897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5680" y="254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1880" y="21906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1044000" y="596376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128240" y="607284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1334520" y="6090120"/>
            <a:ext cx="57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721880" y="5923440"/>
            <a:ext cx="23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1915200" y="595224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m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018520" y="6076080"/>
            <a:ext cx="54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Sumat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2361240" y="595692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2496960" y="604404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gkul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716560" y="604404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mpu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991240" y="59954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213000" y="5999760"/>
            <a:ext cx="37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3429000" y="600768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661200" y="59871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3776040" y="611892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gya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4110480" y="598068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 Ja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4157640" y="614916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4388040" y="6129720"/>
            <a:ext cx="68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609800" y="61329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4838400" y="612216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 Kaliman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5112000" y="611136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5365800" y="606168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ronta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5558040" y="611136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5778360" y="6115680"/>
            <a:ext cx="56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5960880" y="6139440"/>
            <a:ext cx="64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 Sulawe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6414480" y="59029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6615000" y="591408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T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6837480" y="5906160"/>
            <a:ext cx="22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6991920" y="597744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luk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7152480" y="602820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 Maluk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7447320" y="5966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p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7635600" y="599976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P4-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-475560" y="3744360"/>
            <a:ext cx="172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rtion of coh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35800" y="2117880"/>
            <a:ext cx="1528920" cy="547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91240" y="2211480"/>
            <a:ext cx="10008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67280" y="2133720"/>
            <a:ext cx="98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91240" y="2486160"/>
            <a:ext cx="10008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45320" y="2433600"/>
            <a:ext cx="55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u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5EFE-049B-4D39-8460-7B593EE3BF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96920" y="1495440"/>
          <a:ext cx="88390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49544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268360" y="27468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 hospital and clinics low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69D2-50B4-4526-B030-1A21DF120B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7705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Proportion of Case Notified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y Health Clinics &amp; Lung Clinics/Hospital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719360"/>
          <a:ext cx="82281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9360"/>
                    <a:ext cx="82281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4845-C6D8-4D3E-BCCB-6B99A62D94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C76E-99F6-40AC-B933-C93B3D294EF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55640" y="1519200"/>
            <a:ext cx="6769080" cy="361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900000" y="5176800"/>
          <a:ext cx="5695920" cy="134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5176800"/>
                    <a:ext cx="56959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303120"/>
            <a:ext cx="78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atment-seeking practices of patients with history of TB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evalence survey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5E4A-B7AB-449E-9A66-AF0FF223486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Towards 70% case-detection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4076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onesians when sick go to Puskesmas (60%-urban and 70% rur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B services are available and 'gratis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BU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ception population= “puskemas are for poo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eatment seeking to services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 differ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k ACS capacity at province/ district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GB" sz="1700" spc="-1" strike="noStrike">
                <a:solidFill>
                  <a:srgbClr val="808080"/>
                </a:solidFill>
                <a:latin typeface="Arial"/>
              </a:rPr>
              <a:t>We need to build capacity of DOTS teams to promote TB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132000" y="1052640"/>
          <a:ext cx="5537160" cy="29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553716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50920" y="1781280"/>
            <a:ext cx="295272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lth-seeking behaviors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ercentage of people with TB symptoms who have the intention to seek treatment…</a:t>
            </a:r>
            <a:br>
              <a:rPr sz="15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FFBD-5FF1-4774-AB04-64FE5A6CF6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Knowledge about TB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5680" y="880920"/>
          <a:ext cx="49053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880920"/>
                    <a:ext cx="49053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211640" y="836640"/>
          <a:ext cx="4681440" cy="28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836640"/>
                    <a:ext cx="46814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95280" y="3860640"/>
          <a:ext cx="453708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860640"/>
                    <a:ext cx="45370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4572000" y="4437000"/>
            <a:ext cx="427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Source of TB information</a:t>
            </a:r>
            <a:br>
              <a:rPr sz="2000"/>
            </a:br>
            <a:r>
              <a:rPr b="0" i="1" lang="en-US" sz="1700" spc="-1" strike="noStrike">
                <a:solidFill>
                  <a:srgbClr val="330066"/>
                </a:solidFill>
                <a:latin typeface="Arial"/>
              </a:rPr>
              <a:t>Urban-Rural differen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987280" y="4832280"/>
            <a:ext cx="360360" cy="325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476000" y="3860640"/>
            <a:ext cx="431640" cy="432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2E48-B781-43BF-AC49-28DBC44F94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914400"/>
          <a:ext cx="899172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00400" y="2362320"/>
            <a:ext cx="9144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0456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2514600"/>
            <a:ext cx="45720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52280"/>
            <a:ext cx="8839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age male/female patients 2003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Lowest mean age in provinces with high HIV pre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09480"/>
            <a:ext cx="762012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8644-960E-4BAF-BDF1-9FCE87D13F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19112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557600" y="576360"/>
            <a:ext cx="42530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267080" cy="25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469800" y="6091200"/>
            <a:ext cx="228600" cy="228600"/>
          </a:xfrm>
          <a:prstGeom prst="rect">
            <a:avLst/>
          </a:prstGeom>
          <a:solidFill>
            <a:srgbClr val="008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6160" y="601992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GF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4040" y="60912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10040" y="60199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DUTCH GOV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08400" y="6072120"/>
            <a:ext cx="228600" cy="228600"/>
          </a:xfrm>
          <a:prstGeom prst="rect">
            <a:avLst/>
          </a:prstGeom>
          <a:solidFill>
            <a:srgbClr val="008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4400" y="60199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KNCV +   + USAID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-ATM (Q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92840" y="610560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08840" y="601992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CIDA + USAID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F-ATM (Q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59720" y="6033960"/>
            <a:ext cx="228600" cy="228600"/>
          </a:xfrm>
          <a:prstGeom prst="rect">
            <a:avLst/>
          </a:prstGeom>
          <a:solidFill>
            <a:srgbClr val="ff4a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47720" y="603396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BCT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040" y="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or Support to Provinces – phased expa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32767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5 2004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19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094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4 2004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16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2767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9 2005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21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228600" y="581040"/>
            <a:ext cx="419112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6" name=""/>
          <p:cNvSpPr/>
          <p:nvPr/>
        </p:nvSpPr>
        <p:spPr>
          <a:xfrm>
            <a:off x="1828800" y="60948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1 - Q3 2003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GF 8 pr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36A3B-EC85-40D3-A7A4-3C4D06A5549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11700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 Unicode MS"/>
              </a:rPr>
              <a:t>WHO-Recommended Global Strategy to Stop TB</a:t>
            </a:r>
            <a:br>
              <a:rPr sz="24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 Unicode MS"/>
              </a:rPr>
              <a:t>and Reach the 2015 MDG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7160" y="157140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ursuing quality DOTS expansion and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sed treatment, with supervision and pati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ffective drug suppl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30040"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onitoring system and impact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79280" y="119700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250920" y="3716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dditional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Addressing TB/HIV and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Contributing to health-system strength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Engaging all 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5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mpowering patient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6.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nabling and promot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C67E-DBEB-4BC6-90AF-19D36A79A5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71280" y="2060640"/>
          <a:ext cx="4429440" cy="39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060640"/>
                    <a:ext cx="44294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129440" cy="1217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Budgeting Indonesia’s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B-Control Pro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716360" y="2133720"/>
          <a:ext cx="4392720" cy="381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39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 rot="10800000">
            <a:off x="6588000" y="2636640"/>
            <a:ext cx="2232000" cy="360360"/>
          </a:xfrm>
          <a:prstGeom prst="wedgeRectCallout">
            <a:avLst>
              <a:gd name="adj1" fmla="val 74606"/>
              <a:gd name="adj2" fmla="val -143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 to the GF-Rnd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F9F2-2C07-4BC4-88B8-A4834F3877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830160" y="1844640"/>
          <a:ext cx="7481880" cy="4098960"/>
        </p:xfrm>
        <a:graphic>
          <a:graphicData uri="http://schemas.openxmlformats.org/drawingml/2006/table">
            <a:tbl>
              <a:tblPr/>
              <a:tblGrid>
                <a:gridCol w="2324160"/>
                <a:gridCol w="1742760"/>
                <a:gridCol w="1744920"/>
                <a:gridCol w="167004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-B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995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984.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6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Num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S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.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ed Number of SS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1280" y="395280"/>
            <a:ext cx="72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Tahoma"/>
              </a:rPr>
              <a:t>Potential cases by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5612-1420-4F76-8D81-7CD99C2A57A4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11AA-AF69-452B-9FA2-62287D4593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538200" y="363600"/>
          <a:ext cx="8296200" cy="61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363600"/>
                    <a:ext cx="82962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D2C1-602A-42B8-9AEB-C3AB78E29E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427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Urban TB clinic (PPTI)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989000"/>
            <a:ext cx="8153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0000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pati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4 IDU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2 (50%) HIV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1 (50%) S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076640"/>
            <a:ext cx="8153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0000"/>
                </a:solidFill>
                <a:latin typeface="Arial"/>
              </a:rPr>
              <a:t>1 Sep 2004 – 31 Aug 200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1 TB pati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47 (23%) HIV(+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0% SS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EB22-3089-4AD6-9A67-D3E89EC6BAD9}" type="slidenum">
              <a:t>5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96720" y="692280"/>
            <a:ext cx="9540720" cy="73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7E7B-4A4B-4CA4-8511-3EE5D3FB23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21520" y="537372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1520" y="5678640"/>
            <a:ext cx="304920" cy="2286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1520" y="5983200"/>
            <a:ext cx="30492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1520" y="6288120"/>
            <a:ext cx="3049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15160" y="52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8040" y="5334120"/>
            <a:ext cx="12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–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–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2324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320" y="2257560"/>
            <a:ext cx="6172200" cy="2296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4516560"/>
            <a:ext cx="6172200" cy="2341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9280" y="16765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3809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d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0" y="6216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372360" y="404280"/>
            <a:ext cx="252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Center Staf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Provi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 2005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42656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Trained to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CAB9-0830-40DC-8151-E220C0E09C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0" y="4175280"/>
          <a:ext cx="475308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175280"/>
                    <a:ext cx="4753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8584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hospital dist" descr=""/>
          <p:cNvPicPr/>
          <p:nvPr/>
        </p:nvPicPr>
        <p:blipFill>
          <a:blip r:embed="rId3"/>
          <a:stretch/>
        </p:blipFill>
        <p:spPr>
          <a:xfrm>
            <a:off x="-684360" y="622440"/>
            <a:ext cx="10296720" cy="6046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5800" y="26028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Hospit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Tahoma"/>
              </a:rPr>
              <a:t>(absolute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A861-DA9D-4FA5-9E9B-D395132135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gion profile" descr=""/>
          <p:cNvPicPr/>
          <p:nvPr/>
        </p:nvPicPr>
        <p:blipFill>
          <a:blip r:embed="rId1"/>
          <a:stretch/>
        </p:blipFill>
        <p:spPr>
          <a:xfrm>
            <a:off x="-2209680" y="-609480"/>
            <a:ext cx="12039480" cy="8286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260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                                hospital distribution &amp;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172200"/>
            <a:ext cx="160020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6172200"/>
            <a:ext cx="129528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3,722,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6172200"/>
            <a:ext cx="137160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6172200"/>
            <a:ext cx="129528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6172200"/>
            <a:ext cx="1447920" cy="2286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A1AF-6729-46A5-AF41-414408DDE6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7:21:11Z</dcterms:created>
  <dc:creator>Dr Carmelia Basri</dc:creator>
  <dc:description/>
  <dc:language>en-US</dc:language>
  <cp:lastModifiedBy>Carolina Population Center</cp:lastModifiedBy>
  <dcterms:modified xsi:type="dcterms:W3CDTF">2006-11-08T20:22:59Z</dcterms:modified>
  <cp:revision>422</cp:revision>
  <dc:subject/>
  <dc:title>ISTC, 18Nov2005, NTP prsnt</dc:title>
</cp:coreProperties>
</file>